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9.wmf" ContentType="image/x-wmf"/>
  <Override PartName="/ppt/media/image2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gif" ContentType="image/gif"/>
  <Override PartName="/ppt/media/image14.wmf" ContentType="image/x-wmf"/>
  <Override PartName="/ppt/media/image6.gif" ContentType="image/gi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4490-069D-4589-A30F-CC88E7C6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221-33C1-45FB-B5EF-04BE768C0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933C-9300-43C0-A253-3989AD2B1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47C-5950-4110-98F9-03918C772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8122-F92D-49EE-8712-C37934941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A227-8165-45B8-8E4F-788BA1B61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4316-DAC4-4C69-9BDB-66ED46FAD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AE01-8A05-4DD2-A5BB-EA9F46B7EF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72B-D74F-4D71-AD8B-B4F1D987C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FA5-CFA2-4BE8-A294-0224932EA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B69-6372-49DC-A2F0-97E90C8295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D95-4C38-428E-87B6-6F67BD5C26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12F-2570-4D4E-BB59-93D72C727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90B-10B5-48F6-9B9C-80C753456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77D-5E1A-4925-A13D-4F49E1E1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C64-4CB1-4685-85FE-7131244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6B2-1C0F-4F11-9534-F4FBB349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05E-6937-49F3-A6A3-16516C1F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01A8-3D26-4F58-AC88-A8C6037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4C3-4267-4B28-B073-90CFE39C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D31-E40D-4396-B200-A85410AE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D5C-1247-4047-8743-A42CE8E8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37EA-CEBC-4748-8862-DC8B094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86FD-B597-4A0B-9CDA-171CB65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AFA-4293-4583-83F5-87309B4C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97E-8BF6-4921-A483-B64B352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684D-0C62-41C6-87A3-C3FA815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BF1D-5957-4C6B-B66E-1E920B97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645-8675-4CE4-B676-A7ECFA3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D9D4-29DD-4400-A28B-089B930E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7183-E972-4612-938E-99173E3A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7BE-A7A2-4D7E-A124-0EAD4CB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BB8-65AC-45A4-9EA0-5122EE01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B5D-A120-4E8D-A75E-5193EEDD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CE1-B96F-4F5F-877B-9E0EC1E4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925-06A3-4EA3-9928-F780057D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9B1-DDB3-412D-8516-AB6E675B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AA-6C23-474B-9AD9-FB3B76F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FE3-AA8F-4168-B924-D8CFC7F91E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161-8E9A-4867-BF99-0C4FFB6375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3429000" y="2057400"/>
            <a:ext cx="586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Welcome 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C:\Users\dwilliams2\AppData\Local\Microsoft\Windows\Temporary Internet Files\Content.IE5\ZO097Q1G\MP900402149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3814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47920" y="5562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9" descr="C:\Users\dwilliams2\AppData\Local\Microsoft\Windows\Temporary Internet Files\Content.IE5\253LA2QH\MP900427810[1].jpg"/>
          <p:cNvPicPr/>
          <p:nvPr/>
        </p:nvPicPr>
        <p:blipFill>
          <a:blip r:embed="rId1"/>
          <a:stretch/>
        </p:blipFill>
        <p:spPr>
          <a:xfrm>
            <a:off x="457200" y="2514600"/>
            <a:ext cx="3836880" cy="285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4.bp.blogspot.com/-LvxvGLKa8o4/UcCEN6Ub7PI/AAAAAAAAA-g/rcwRk20R6R0/s1600/hands+in+lap.jpg"/>
          <p:cNvPicPr/>
          <p:nvPr/>
        </p:nvPicPr>
        <p:blipFill>
          <a:blip r:embed="rId2"/>
          <a:stretch/>
        </p:blipFill>
        <p:spPr>
          <a:xfrm>
            <a:off x="5257800" y="22431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5048280" y="5557680"/>
            <a:ext cx="35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List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6" name="Picture 4" descr="MCj0297943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13842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MCj0297941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43820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2895480" y="6019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et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MCj02979390000[1]"/>
          <p:cNvPicPr/>
          <p:nvPr/>
        </p:nvPicPr>
        <p:blipFill>
          <a:blip r:embed="rId3"/>
          <a:stretch/>
        </p:blipFill>
        <p:spPr>
          <a:xfrm>
            <a:off x="7238880" y="1219320"/>
            <a:ext cx="1332000" cy="3200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6324480" y="4495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o to the Re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1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Dismiss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ve Work/Exit progr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t away headphones proper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ighten keyboard/m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ather materials/tras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 in chair and stand behind it until dismissed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C:\Users\dwilliams2\AppData\Local\Microsoft\Windows\Temporary Internet Files\Content.IE5\ZO097Q1G\MM900283848[1].gif"/>
          <p:cNvPicPr/>
          <p:nvPr/>
        </p:nvPicPr>
        <p:blipFill>
          <a:blip r:embed="rId1"/>
          <a:stretch/>
        </p:blipFill>
        <p:spPr>
          <a:xfrm>
            <a:off x="5562720" y="2057400"/>
            <a:ext cx="317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df"/>
                </a:solidFill>
                <a:latin typeface="bang whack pow"/>
              </a:rPr>
              <a:t>Lining Up Procedures</a:t>
            </a:r>
            <a:endParaRPr b="0" lang="en-US" sz="6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instructed by teach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le around to the lef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lk to the door in single fi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C:\Users\dwilliams2\AppData\Local\Microsoft\Windows\Temporary Internet Files\Content.IE5\IS9CPID6\MP900382689[1].jpg"/>
          <p:cNvPicPr/>
          <p:nvPr/>
        </p:nvPicPr>
        <p:blipFill>
          <a:blip r:embed="rId1"/>
          <a:stretch/>
        </p:blipFill>
        <p:spPr>
          <a:xfrm>
            <a:off x="177840" y="3809880"/>
            <a:ext cx="820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Attention Student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39" name="Picture 2" descr="http://www.scholastic.com/teachers/sites/default/files/posts/u24/images/az.cwk_.rocketship.jpg"/>
          <p:cNvPicPr/>
          <p:nvPr/>
        </p:nvPicPr>
        <p:blipFill>
          <a:blip r:embed="rId1"/>
          <a:stretch/>
        </p:blipFill>
        <p:spPr>
          <a:xfrm>
            <a:off x="1289160" y="1295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www.scholastic.com/teachers/sites/default/files/posts/u24/images/az.cwk_.satellite.jpg"/>
          <p:cNvPicPr/>
          <p:nvPr/>
        </p:nvPicPr>
        <p:blipFill>
          <a:blip r:embed="rId2"/>
          <a:stretch/>
        </p:blipFill>
        <p:spPr>
          <a:xfrm>
            <a:off x="4495680" y="1371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www.scholastic.com/teachers/sites/default/files/posts/u24/images/az.cwk_.launchpad.jpg"/>
          <p:cNvPicPr/>
          <p:nvPr/>
        </p:nvPicPr>
        <p:blipFill>
          <a:blip r:embed="rId3"/>
          <a:stretch/>
        </p:blipFill>
        <p:spPr>
          <a:xfrm>
            <a:off x="1289160" y="4038480"/>
            <a:ext cx="2628720" cy="2629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4850640" y="4648320"/>
            <a:ext cx="26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st Off”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to Wor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85840" y="257184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7153920" y="24955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tell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79360" y="518652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Logging In and Ou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og In—One be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sten before Logging Out-Two bell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" descr="C:\Users\dwilliams2\AppData\Local\Microsoft\Windows\Temporary Internet Files\Content.IE5\253LA2QH\MP900382799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94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d1df"/>
                </a:solidFill>
                <a:latin typeface="Amadeus"/>
              </a:rPr>
              <a:t>Drill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1960" y="1472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nado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Blu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C:\Users\dwilliams2\AppData\Local\Microsoft\Windows\Temporary Internet Files\Content.IE5\IS9CPID6\MC900335182[1].wmf"/>
          <p:cNvPicPr/>
          <p:nvPr/>
        </p:nvPicPr>
        <p:blipFill>
          <a:blip r:embed="rId1"/>
          <a:stretch/>
        </p:blipFill>
        <p:spPr>
          <a:xfrm>
            <a:off x="4191120" y="2593800"/>
            <a:ext cx="39574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505320" y="1450800"/>
            <a:ext cx="586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Enjoy your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ime in th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304920" y="1622520"/>
            <a:ext cx="373356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990720" y="1295280"/>
            <a:ext cx="71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Technology Lab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Rules &amp; Procedur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Cj04244440000[1]"/>
          <p:cNvPicPr/>
          <p:nvPr/>
        </p:nvPicPr>
        <p:blipFill>
          <a:blip r:embed="rId1"/>
          <a:stretch/>
        </p:blipFill>
        <p:spPr>
          <a:xfrm>
            <a:off x="6095880" y="1295280"/>
            <a:ext cx="260028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Arriv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Sanitize FIRST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Come in quie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Move to 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igned compute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you are told to do s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Do not begin using the computer until told to do so. Listen to grownup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052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thsCuteHmkBold"/>
              </a:rPr>
              <a:t>Be Nice to the Computer Lab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2" name="Picture 14" descr="http://ecx.images-amazon.com/images/I/51ccgc74c%2BL._SX300_.jpg"/>
          <p:cNvPicPr/>
          <p:nvPr/>
        </p:nvPicPr>
        <p:blipFill>
          <a:blip r:embed="rId1"/>
          <a:stretch/>
        </p:blipFill>
        <p:spPr>
          <a:xfrm>
            <a:off x="533520" y="1015920"/>
            <a:ext cx="77724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No food or drinks in the lab</a:t>
            </a:r>
            <a:br>
              <a:rPr sz="4400"/>
            </a:b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2080" cy="4705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MCj04325380000[1]"/>
          <p:cNvPicPr/>
          <p:nvPr/>
        </p:nvPicPr>
        <p:blipFill>
          <a:blip r:embed="rId2"/>
          <a:stretch/>
        </p:blipFill>
        <p:spPr>
          <a:xfrm>
            <a:off x="3809880" y="2514600"/>
            <a:ext cx="3657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25560"/>
            <a:ext cx="822960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df"/>
                </a:solidFill>
                <a:latin typeface="bang whack pow"/>
              </a:rPr>
              <a:t>Be Nice to the Computers Lab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5562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with permission ON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 and Print once, when tol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MMj01631220000[1]"/>
          <p:cNvPicPr/>
          <p:nvPr/>
        </p:nvPicPr>
        <p:blipFill>
          <a:blip r:embed="rId1"/>
          <a:stretch/>
        </p:blipFill>
        <p:spPr>
          <a:xfrm>
            <a:off x="5334120" y="5029200"/>
            <a:ext cx="2743200" cy="163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413410000[1]"/>
          <p:cNvPicPr/>
          <p:nvPr/>
        </p:nvPicPr>
        <p:blipFill>
          <a:blip r:embed="rId2"/>
          <a:stretch/>
        </p:blipFill>
        <p:spPr>
          <a:xfrm>
            <a:off x="-76320" y="1447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2743200" y="104616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screens clean, please do not tou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move or load any softwa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can tilt over when moved, please do move the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gentle with mice &amp; headph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-669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ve your area neat, clean, and organiz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28600" y="3552840"/>
            <a:ext cx="1828800" cy="10666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6400800" cy="3600360"/>
          </a:xfrm>
          <a:prstGeom prst="rect">
            <a:avLst/>
          </a:prstGeom>
          <a:ln w="76320">
            <a:solidFill>
              <a:srgbClr val="e0a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ang whack pow"/>
              </a:rPr>
              <a:t>Be Nice to Other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Help others with you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th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se!!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Keep your hands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your computer on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Open only your wor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1" descr="MCj04257960000[1]"/>
          <p:cNvPicPr/>
          <p:nvPr/>
        </p:nvPicPr>
        <p:blipFill>
          <a:blip r:embed="rId1"/>
          <a:stretch/>
        </p:blipFill>
        <p:spPr>
          <a:xfrm>
            <a:off x="177840" y="3657600"/>
            <a:ext cx="2971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rlin Sans FB"/>
              </a:rPr>
              <a:t>Internet Rule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tay on approv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ver give out person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formatio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odel Good Digital Citizenshi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t all times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214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3:01:56Z</dcterms:created>
  <dc:creator>Amber Coggin</dc:creator>
  <dc:description/>
  <dc:language>en-US</dc:language>
  <cp:lastModifiedBy>dell</cp:lastModifiedBy>
  <dcterms:modified xsi:type="dcterms:W3CDTF">2014-08-25T16:17:43Z</dcterms:modified>
  <cp:revision>33</cp:revision>
  <dc:subject/>
  <dc:title>Slide 1</dc:title>
</cp:coreProperties>
</file>